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509B-EF59-4746-9F80-805CA09F6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B93C-7F05-47A8-9411-01F930BA2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5BBC-0297-47CA-97CC-E029E8654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65D0-7EAD-4864-B9C5-652E02A0D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04F5B-791F-4D7D-9A95-19B64895D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B48F3-9A05-4B20-AF0A-F28523639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83AA4-69D3-4E40-B78D-E22348180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2D9D1-CCCD-402F-A8E0-3E936F266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ABAFB-967C-4715-97DE-ABF8E2758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9FAA8-1631-4339-9A29-D111B5B6C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6B840-ABC1-4614-AF8B-58E0D34A6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9C8A-4DC3-4BF5-ACDA-91B6F11E1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97090-099A-4DBD-AF53-07ED2D318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BF830-1933-4F3A-BEFE-2D2D736A3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A97F1-28D7-4C64-A84D-88E0A6D71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00CE2-2CFF-4898-B524-488A03ED5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DB496-46BA-4D1B-A0BF-BF0822AD5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3B62-C134-4A83-9CA0-5CFDEF02B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6BDB-73D8-43AB-A090-704473666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EC6E-814C-4CCB-862E-0A0F01056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C433-2E0C-4DB9-8DF8-BD0F2B529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EA38-6DFF-473E-89E8-CB21FD3E7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3DCF-CB1E-4B3A-A05F-B5C9028F3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747D-75CD-4336-8979-46AA3BDB6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4679A-3FAC-41DA-9153-88D45F1452A4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1653E-C771-48DE-B3F2-E67B44242026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cce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1760" y="-762120"/>
            <a:ext cx="6870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It’s a popular English game.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It is played with an oval – shaped ball</a:t>
            </a: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6629400" y="530964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20 poi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743200" y="4145400"/>
            <a:ext cx="281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R</a:t>
            </a:r>
            <a:r>
              <a:rPr b="1" lang="ru-RU" sz="4400" spc="-1" strike="noStrike">
                <a:solidFill>
                  <a:srgbClr val="ffffff"/>
                </a:solidFill>
                <a:latin typeface="Comic Sans MS"/>
              </a:rPr>
              <a:t>ugb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09-01-26T15:35:27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